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AB0-5D2C-42E7-9B30-0D4E2252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786-5A1B-44AC-89E4-FAB12F26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CD4-DDC4-4DD9-9856-59390E65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41A-2E50-4709-A6A0-C9FCF49C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FA7-8E8F-4EC2-8974-BE7CC9C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035-461A-4886-BBFC-A6B72876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B19-1E2D-4C79-AB25-9C929C28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854-4AFA-4365-81CD-3E032859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DD0-0F1A-4292-BCF9-CC4740EB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63B-4119-4E4E-B308-F4E2B3F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C38-379F-4A2E-BFB7-9DFAD35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3D6-4245-40D9-9E22-A73D7E8E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A3B5-D967-41E6-9280-7BB4145BB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tiny wilk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447920" y="3808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reek city-state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ttp://clio.missouristate.edu/chuchiak/New%20Webpage%20Images/10056152aAthensAgora.jpg"/>
          <p:cNvPicPr/>
          <p:nvPr/>
        </p:nvPicPr>
        <p:blipFill>
          <a:blip r:embed="rId2"/>
          <a:stretch/>
        </p:blipFill>
        <p:spPr>
          <a:xfrm>
            <a:off x="2362320" y="3429000"/>
            <a:ext cx="524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676520" y="304920"/>
            <a:ext cx="5790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udy of wisdom and the right way to 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63360" y="-87012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63360" y="-87012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3360" y="-870120"/>
            <a:ext cx="257184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newworldencyclopedia.org/thumb/c/cd/Escola_de_Atenas.jpg/350px-Escola_de_Atenas.jpg"/>
          <p:cNvPicPr/>
          <p:nvPr/>
        </p:nvPicPr>
        <p:blipFill>
          <a:blip r:embed="rId2"/>
          <a:stretch/>
        </p:blipFill>
        <p:spPr>
          <a:xfrm>
            <a:off x="2590920" y="3124080"/>
            <a:ext cx="46558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133720" y="380880"/>
            <a:ext cx="48006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 n area of land nearly surrounded by water.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2.gstatic.com/images?q=tbn:ANd9GcRGCgbi2yBNTrMDDvkeOMN7csQp5hjlb59dNkraQTvW9u33vPra"/>
          <p:cNvPicPr/>
          <p:nvPr/>
        </p:nvPicPr>
        <p:blipFill>
          <a:blip r:embed="rId2"/>
          <a:stretch/>
        </p:blipFill>
        <p:spPr>
          <a:xfrm>
            <a:off x="2057400" y="30481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676520" y="30492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r between Athens and Spa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63360" y="-723960"/>
            <a:ext cx="300996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greece.mrdonn.org/pelopo1.gif"/>
          <p:cNvPicPr/>
          <p:nvPr/>
        </p:nvPicPr>
        <p:blipFill>
          <a:blip r:embed="rId2"/>
          <a:stretch/>
        </p:blipFill>
        <p:spPr>
          <a:xfrm>
            <a:off x="3124080" y="2895480"/>
            <a:ext cx="38671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295280" y="380880"/>
            <a:ext cx="6172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Oligarc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kind of government that is run by a small group 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hellenicadventures.com/images/greeceHistoryPic07.jpg"/>
          <p:cNvPicPr/>
          <p:nvPr/>
        </p:nvPicPr>
        <p:blipFill>
          <a:blip r:embed="rId2"/>
          <a:stretch/>
        </p:blipFill>
        <p:spPr>
          <a:xfrm>
            <a:off x="3048120" y="2819520"/>
            <a:ext cx="2743200" cy="36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2286000" y="304920"/>
            <a:ext cx="4724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Harb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 sheltered place along the coast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t0.gstatic.com/images?q=tbn:ANd9GcQKR9V7C_CRLMwv8ESAXNK8GONsyx2rjtaCSHUIqtPiAIqtVxMPtA"/>
          <p:cNvPicPr/>
          <p:nvPr/>
        </p:nvPicPr>
        <p:blipFill>
          <a:blip r:embed="rId2"/>
          <a:stretch/>
        </p:blipFill>
        <p:spPr>
          <a:xfrm>
            <a:off x="2743200" y="2971800"/>
            <a:ext cx="4103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http://www.sheppardsoftware.com/images/Europe/factfile/Acropolis.jpg"/>
          <p:cNvPicPr/>
          <p:nvPr/>
        </p:nvPicPr>
        <p:blipFill>
          <a:blip r:embed="rId2"/>
          <a:stretch/>
        </p:blipFill>
        <p:spPr>
          <a:xfrm>
            <a:off x="1752480" y="2590920"/>
            <a:ext cx="5973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greek-islands.us/athens/greek-agora/ancient-agora.jpg"/>
          <p:cNvPicPr/>
          <p:nvPr/>
        </p:nvPicPr>
        <p:blipFill>
          <a:blip r:embed="rId2"/>
          <a:stretch/>
        </p:blipFill>
        <p:spPr>
          <a:xfrm>
            <a:off x="2666880" y="2743200"/>
            <a:ext cx="49402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286000" y="3049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85800" y="1295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905120" y="1066680"/>
            <a:ext cx="55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uplandcds.org/images/greek_Lucy.jpg"/>
          <p:cNvPicPr/>
          <p:nvPr/>
        </p:nvPicPr>
        <p:blipFill>
          <a:blip r:embed="rId2"/>
          <a:stretch/>
        </p:blipFill>
        <p:spPr>
          <a:xfrm>
            <a:off x="2438280" y="3048120"/>
            <a:ext cx="4200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3808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tiz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600200" y="152388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erson who has certain rights and responsibilities to his of her cou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t1.gstatic.com/images?q=tbn:ANd9GcSCuFdSSnVmqoaXUzU4ElIlNAdpyD53BPg6x3c6tboJNvOesBNTXA"/>
          <p:cNvPicPr/>
          <p:nvPr/>
        </p:nvPicPr>
        <p:blipFill>
          <a:blip r:embed="rId2"/>
          <a:stretch/>
        </p:blipFill>
        <p:spPr>
          <a:xfrm>
            <a:off x="1600200" y="3124080"/>
            <a:ext cx="5832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133720" y="38088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80880" y="1523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group of people who lived from apart of Greece but kept economic ties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acefitness.org/images/webcontent/certifiednews/Dec_2011/American_Gothic.jpg"/>
          <p:cNvPicPr/>
          <p:nvPr/>
        </p:nvPicPr>
        <p:blipFill>
          <a:blip r:embed="rId2"/>
          <a:stretch/>
        </p:blipFill>
        <p:spPr>
          <a:xfrm>
            <a:off x="2743200" y="2666880"/>
            <a:ext cx="3270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82880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crac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762120" y="1676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s://questgreekmythology.wikispaces.com/file/view/greece06.gif/32856029/greece06.gif"/>
          <p:cNvPicPr/>
          <p:nvPr/>
        </p:nvPicPr>
        <p:blipFill>
          <a:blip r:embed="rId2"/>
          <a:stretch/>
        </p:blipFill>
        <p:spPr>
          <a:xfrm>
            <a:off x="1905120" y="2895480"/>
            <a:ext cx="47242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905120" y="38088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67652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hear evidence and make decisions in a court of law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http://www.usu.edu/markdamen/ClasDram/images/01/theatron.jpg"/>
          <p:cNvPicPr/>
          <p:nvPr/>
        </p:nvPicPr>
        <p:blipFill>
          <a:blip r:embed="rId2"/>
          <a:stretch/>
        </p:blipFill>
        <p:spPr>
          <a:xfrm>
            <a:off x="2057400" y="2819520"/>
            <a:ext cx="5029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905120" y="3808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83808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headed by one ru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http://t0.gstatic.com/images?q=tbn:ANd9GcQ4O2u2dpB44DHSaMmWHnqTAG9bS4DF7TRYg3fu7mtdelIOUClWaMo3KIXL"/>
          <p:cNvPicPr/>
          <p:nvPr/>
        </p:nvPicPr>
        <p:blipFill>
          <a:blip r:embed="rId2"/>
          <a:stretch/>
        </p:blipFill>
        <p:spPr>
          <a:xfrm>
            <a:off x="2895480" y="3436920"/>
            <a:ext cx="35434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1:00:52Z</dcterms:modified>
  <cp:revision>100</cp:revision>
  <dc:subject/>
  <dc:title>Ancient Greece</dc:title>
</cp:coreProperties>
</file>